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02B-1F5F-4361-B23D-94B5A9DB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77A-F428-4892-BEFD-D58FC205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DE2-73AF-4576-BD35-126468B8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045-DF8D-4DE1-80F7-C867862A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C1B-FAE9-4843-BC14-9E58D2F0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44A-FEA8-4852-AD7D-BE0F53FB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539-3BFC-4D9E-900C-93EF28F0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02D-13E1-4BAD-8FB3-4750B535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1B6-D79B-4A7C-A8C4-3E2C6A43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E35-7C28-4283-8F59-92B9924D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883-1768-467A-B926-82B37536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FE9-6A30-4791-8474-94A04EB4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6A3C-7F4A-4309-9E69-27CB8C65D1B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بر والبطر والتعالي على الخل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حقيقة ضعف وعجز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مربع نص 1"/>
          <p:cNvSpPr/>
          <p:nvPr/>
        </p:nvSpPr>
        <p:spPr>
          <a:xfrm>
            <a:off x="250920" y="2421000"/>
            <a:ext cx="86612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عدم قتل الأولاد خشية الفق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جميع الفواح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قتل النفس التي حرم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مال اليتيم التي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الكيل والميزان ب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عدل في الق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عهد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اتباع غير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425520" y="981000"/>
            <a:ext cx="8486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مربع نص 1"/>
          <p:cNvSpPr/>
          <p:nvPr/>
        </p:nvSpPr>
        <p:spPr>
          <a:xfrm>
            <a:off x="250920" y="191628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مثل ما حدث اليوم في بلاد سوريا اليوم من اعتداء حكومتها على شع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295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4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298440" y="1628640"/>
            <a:ext cx="864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1058760" y="3578400"/>
            <a:ext cx="7834320" cy="229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16239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يقع في 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1477800" y="1052640"/>
            <a:ext cx="741528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3336840" y="2239920"/>
            <a:ext cx="557532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324000" y="28162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شر الفساد في الأرض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6"/>
          <a:stretch/>
        </p:blipFill>
        <p:spPr>
          <a:xfrm>
            <a:off x="214200" y="4076640"/>
            <a:ext cx="5005440" cy="62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7"/>
          <a:stretch/>
        </p:blipFill>
        <p:spPr>
          <a:xfrm>
            <a:off x="1819440" y="4727520"/>
            <a:ext cx="3365280" cy="50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8"/>
          <a:stretch/>
        </p:blipFill>
        <p:spPr>
          <a:xfrm>
            <a:off x="214200" y="5300640"/>
            <a:ext cx="4934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2109960"/>
            <a:ext cx="88776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59120" y="4400640"/>
            <a:ext cx="34797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124000" y="1052640"/>
            <a:ext cx="6792840" cy="63504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"/>
          <p:cNvSpPr/>
          <p:nvPr/>
        </p:nvSpPr>
        <p:spPr>
          <a:xfrm>
            <a:off x="250920" y="18432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بعد أن ذكر الله حقوقه وحقوق العباد ذكر الله تعالى هنا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46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616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250920" y="2062080"/>
            <a:ext cx="8642160" cy="47134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4005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خافة الفق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95280" y="44766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ثماً عظيم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395280" y="4959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63600" y="5373720"/>
            <a:ext cx="4824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تب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58230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بر وخي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74760" y="632772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طرود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564000" y="1359000"/>
            <a:ext cx="3600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حرم الله تعالى على العبا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تل الوالدين لأولادهم خوفاً من الفق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عظائم الذنوب وكبائر الآث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فس التي حرم الله قتلها هي نف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مؤم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كافر الذي له عهد او أمان او ذ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وز قتل النفس المعصومة في ثلاث حال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فس بالنفس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زاني المحص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ارك لدينه المفارق للجما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86064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صدار الأحكام القضائية وتنفيذها راجع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أمر المسلمين ومن يقوم مقا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3750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احب الحق في القصاص أو الدية أو العفو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المقت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48798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4021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إيفاء المكاييل والموازين بالقسط من غير بخ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907240"/>
            <a:ext cx="8665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حفظ الجوار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389640"/>
            <a:ext cx="8665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مسؤول ع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وارح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1:00Z</dcterms:modified>
  <cp:revision>1993</cp:revision>
  <dc:subject/>
  <dc:title>عرض تقديمي في PowerPoint</dc:title>
</cp:coreProperties>
</file>